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191-1BCF-4D5A-BCAE-25D11F6E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0C9-838D-46B3-831F-09CF7E67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CA6-5060-47CC-B6FF-9A500152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53F-EEE8-44C4-8B6E-DE856B96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EC1-7655-4740-9C1D-54852C3D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E1D-F8C9-419C-911C-B8235143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BBD-0C89-4324-9391-E2A3BFE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481-968E-4020-BF60-2E942C7B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7DF-7DC7-4C17-BAB5-6D4EC238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BCD-C527-40CB-B008-53A9ECB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81D-9147-4DBF-AA51-1297A29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81F-AAAD-497B-9F03-EFC40771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EC27-11FD-4AC7-84DA-8F950B01C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rmummy.com/index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Nile%20Delta"/>
          <p:cNvPicPr/>
          <p:nvPr/>
        </p:nvPicPr>
        <p:blipFill>
          <a:blip r:embed="rId2"/>
          <a:stretch/>
        </p:blipFill>
        <p:spPr>
          <a:xfrm>
            <a:off x="400212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0"/>
            <a:ext cx="3886200" cy="120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10- 7 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1219320"/>
            <a:ext cx="3865680" cy="2442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0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the picture of the Nile River taken from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What does the Nile River look like to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 you think this green area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Nakht and his Wife, Holding a Water Lily to Breath in its Fragrence with Offerings of the Flower"/>
          <p:cNvPicPr/>
          <p:nvPr/>
        </p:nvPicPr>
        <p:blipFill>
          <a:blip r:embed="rId3"/>
          <a:stretch/>
        </p:blipFill>
        <p:spPr>
          <a:xfrm>
            <a:off x="762120" y="3976560"/>
            <a:ext cx="243828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The Sons of Horus on a Blue Water Lily, Before Osiris"/>
          <p:cNvPicPr/>
          <p:nvPr/>
        </p:nvPicPr>
        <p:blipFill>
          <a:blip r:embed="rId4"/>
          <a:stretch/>
        </p:blipFill>
        <p:spPr>
          <a:xfrm>
            <a:off x="4038480" y="4468680"/>
            <a:ext cx="1752840" cy="2389320"/>
          </a:xfrm>
          <a:prstGeom prst="rect">
            <a:avLst/>
          </a:prstGeom>
          <a:ln w="0">
            <a:noFill/>
          </a:ln>
        </p:spPr>
      </p:pic>
      <p:sp>
        <p:nvSpPr>
          <p:cNvPr id="46" name="Line 16"/>
          <p:cNvSpPr/>
          <p:nvPr/>
        </p:nvSpPr>
        <p:spPr>
          <a:xfrm flipV="1">
            <a:off x="3581280" y="27432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1447920" y="3276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6172200" y="617220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ok on p. 95 to see picture of desert meets fertile vall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Mummy Jok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6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.  Q: Why did the mummy leave his tomb after 1000 years 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Because he thought he was old enough to leave home 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. Q: Why were ancient Egyptian children confused 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Because their daddies were mummies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ere do mummies go for a swim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To the dead se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y was the mummy so tens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He was all wound up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y don't mummies take vacation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They're afraid they'll relax and unwin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y couldn’t the mummy come outsid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Because he was all wrapped up!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at is a Mummies' favorite type of music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Wrap!!!!!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1647720"/>
            <a:ext cx="205740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93840" y="2687760"/>
            <a:ext cx="2509560" cy="20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65040" y="3686040"/>
            <a:ext cx="3605400" cy="4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84120" y="4913280"/>
            <a:ext cx="3237120" cy="44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01760" y="6116760"/>
            <a:ext cx="2046240" cy="29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203800" y="1730520"/>
            <a:ext cx="350532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181480" y="2921040"/>
            <a:ext cx="365760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Dr. Mumm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1828800"/>
            <a:ext cx="1324080" cy="155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animated Egypt"/>
          <p:cNvPicPr/>
          <p:nvPr/>
        </p:nvPicPr>
        <p:blipFill>
          <a:blip r:embed="rId4"/>
          <a:stretch/>
        </p:blipFill>
        <p:spPr>
          <a:xfrm>
            <a:off x="5867280" y="4495680"/>
            <a:ext cx="1600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urn on Computer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UT do not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og in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7:51:36Z</dcterms:created>
  <dc:creator>Selena Ramsey</dc:creator>
  <dc:description/>
  <dc:language>en-US</dc:language>
  <cp:lastModifiedBy>poweruser</cp:lastModifiedBy>
  <dcterms:modified xsi:type="dcterms:W3CDTF">2011-10-07T20:05:41Z</dcterms:modified>
  <cp:revision>462</cp:revision>
  <dc:subject/>
  <dc:title>Agenda Sept. 6, 2005</dc:title>
</cp:coreProperties>
</file>